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65B7-9FC3-432E-85E8-90AEBBB0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FDE-8D41-4ED2-87D2-5FDE69BD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2C5-E22C-4648-88CC-1C497295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3A18-B9FA-45D6-B488-43FA03AF4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50BF9-B314-4EBB-9824-E5FF5285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69619-D1CA-4032-AD0A-65DCA60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0C180-03B7-4853-8022-5934F079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1905D-3654-444E-9D6F-2B3464A0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2073F-1F68-4F1C-8C19-28F7DA9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6A89-18AF-4BA0-BB0B-CE2440A4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7DB7A-D769-4881-95EF-6B944CCF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161-E3D9-46EC-AFB6-EA885A6C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C6E76-29C7-4EC2-BDC8-7079F5C4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7F895-A1BE-4464-8A8E-106D7E76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383E3-5090-4C4E-BADD-2F624848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0AEEE-3B02-4586-A275-D81CEAD6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CE11-3DCD-4478-8DA8-365FE52D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C97CD-0A83-4BF3-8EA0-A3563D752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1E6EA-1F84-4ECA-82D1-E9E1F526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068DD-0C91-4234-90F6-2AEB9B3E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CDD26-FBBE-4F26-B774-1EA475631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CF6A-4C75-49DE-B078-446B5831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5F9-8267-4F29-97A9-959806B5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79A39-D829-4996-97F6-877E434F9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E611-0550-45AA-AC98-C0070A22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88D0-6D2C-489E-9609-B470E6F0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8F80-73A8-44A2-9487-FFAC83D1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1D09-8BE7-47D2-8B55-CB93C184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96703-52E5-41B9-A5E0-85ED2B20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3E7C8-1FD7-4046-8CFD-DB1C34402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D309F-30FD-4B02-9D23-945AF40F3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6A08-9720-42D0-8344-5B14FAF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3E8A-1551-4352-959A-B14FDBD0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7B8-F3FD-4B9C-8A1B-41656E52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ECE45-0936-4233-87FE-A96498C3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6C325-9BAB-4D53-8593-E8B54C75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CAFCC-982D-4FFA-848C-A3C5CEB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F980-6A33-48A8-8195-17F8004A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E13D2-433C-426F-9FB7-47CBC565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A4B7-7FB8-4B27-B462-1FB71DE5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84C9-03CA-4546-A23D-A02DF9D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B9FF6-BAAB-4F52-8D70-C7B0435EA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BBA40-1076-4949-8FA4-FBDA9B26F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835A-573D-4764-A6A5-D5932839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521-5784-49BF-A7D2-F0A87F1F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29164-F60A-43F6-B4D5-56CDE1C6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7E993-4442-447E-A978-E7D2D5A9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2D11E-AB18-4E6B-A23D-5B275A26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9BE7B-3363-4470-A3DE-008E5E5E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2EDB-3619-4026-9357-321C5984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9974-8FF7-4DD4-8494-C6688BC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C3151-BC2F-4458-9E1B-7AAB210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2CA2B-F91D-4C5B-A37E-E2AB29C1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F0150-0462-4976-92D9-36AEFFD8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A1774-22AD-4CE1-9638-237C205E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623B-1343-45BE-938E-C0F43B2D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66930-0E1F-4537-A9D3-F4E32702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EEAA-8D2E-40A8-8EC3-C2C59994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75079-0AF4-4B6E-8D22-E328EFD22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D3FC7-A7E8-4E5C-BA8E-96E8D2A6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7F4A4-ED97-457B-B92E-685E9BFB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A4381-981A-4C97-A528-3600AD48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9F021-8092-40BE-AAE5-F5E9519F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F62D-4914-438E-A928-6B893F4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6C307-FA51-432E-9DA8-6C84B2B9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1C416-7B53-4FC0-9F6B-5F034AD4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7AE-A754-4174-8D27-C6E8B318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5E3DE-1E70-460F-9120-F8AC90A8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7EB47-4DF4-4787-B036-E819EF3A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7F10-C3C9-41EF-94A0-C4149C75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3FFEA-6593-46B7-ADB8-D4084290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8CD9-1B73-4B28-BEA4-C103B550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9A8E1-7EAB-40AF-B5A5-44CF7163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1343-CC8A-4D71-978E-347B2134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F5A4C-D2D1-4BE5-B3AB-B4ADCF51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B78E3-557D-4B83-B105-3BC207A5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E3661-0B96-40AC-9B79-643741E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EE02-8F3C-4477-B3F2-BA529ADE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A42E7-54B5-4D39-BD15-CB23F3FC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0DA86-2B8F-4748-9C4B-EE308615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3F834-6824-4846-B418-8B20F71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8F455-9153-4717-B7A6-5D2FA1D5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10C353-BB29-425C-97CD-559E57A32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B3B0-3DF5-4B29-90AF-59CAB0E7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2359-A36F-4CD6-93AE-1DF7782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F8437-053E-410A-AB45-228375AD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7FDC2-BE79-4ACA-9796-168F2B11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B927-FE3A-4B40-88F3-50BD23C6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41B9-D216-4955-94CD-96B7AFB9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ECA32-C4BF-43B7-84AE-54D52398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15CA1-D374-44ED-BCE6-A51F06E8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FC1C3-5916-4362-9F55-D85FCC92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CD0B6-6E04-4E3F-95CF-6515C422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0EAA-27FA-48A8-8BFC-0FFEC666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03826-B572-437E-A33D-06D2464A2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47246-4190-4988-8417-D1779399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C22-5A16-43BE-9C55-EBF95CB0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913-6451-47CF-B68F-F8E6B3D6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3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0C6C-E1D5-4164-8E8B-2AC9B7D2E9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29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31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6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5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5B50-85DE-4403-887D-BA479E5085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4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C874-4932-441F-B14B-13B77B34ED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83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AE48-D6A1-4918-BF06-0CFB6B4603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4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4774-5690-438C-8326-A86B087741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97CE-D0B5-496D-9DD9-722C3A340F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قياس الرسم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227160" y="512928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50920" y="314172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1440" y="981000"/>
            <a:ext cx="874872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076640" y="4476600"/>
            <a:ext cx="1656000" cy="720720"/>
          </a:xfrm>
          <a:prstGeom prst="ellipse">
            <a:avLst/>
          </a:prstGeom>
          <a:solidFill>
            <a:srgbClr val="00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782400">
            <a:off x="7188120" y="2134800"/>
            <a:ext cx="2303640" cy="13669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184560" y="38160"/>
            <a:ext cx="3363840" cy="90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700360" y="0"/>
            <a:ext cx="338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Imprint MT Shadow"/>
                <a:cs typeface="mohammad bold art 1"/>
              </a:rPr>
              <a:t>مقياس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716360" y="1413000"/>
            <a:ext cx="417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1618920" y="1762200"/>
            <a:ext cx="3529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9280" y="1012680"/>
            <a:ext cx="51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26920" y="1844640"/>
            <a:ext cx="447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451640" y="234936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mohammad bold art 1"/>
              </a:rPr>
              <a:t>أمثل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49360" y="3151080"/>
            <a:ext cx="828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ا- رسمت منارة بمقياس رس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فكان ارتفاعها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mohammad bold art 1"/>
              </a:rPr>
              <a:t>سم أوجد الارتفاع الحقيقي للمنار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727680" y="4449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95640" y="4427640"/>
            <a:ext cx="151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788000" y="545616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847800" y="58374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03440" y="5846760"/>
            <a:ext cx="397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16000" y="5138640"/>
            <a:ext cx="370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في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3618000"/>
            <a:ext cx="9144000" cy="32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44280"/>
            <a:ext cx="9144000" cy="324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067280" y="6021360"/>
            <a:ext cx="1439640" cy="692280"/>
          </a:xfrm>
          <a:prstGeom prst="rect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121520" y="3367080"/>
            <a:ext cx="1692360" cy="6476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3520" y="577800"/>
            <a:ext cx="16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792840" y="20520"/>
            <a:ext cx="13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7308360" y="620640"/>
            <a:ext cx="11509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372360" y="2714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626920" y="620640"/>
            <a:ext cx="3816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556000" y="52704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603600" y="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170028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66"/>
                </a:solidFill>
                <a:latin typeface="Arial"/>
                <a:cs typeface="mohammad bold art 1"/>
              </a:rPr>
              <a:t>الطول الحقيقي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051000" y="1722600"/>
            <a:ext cx="2457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3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8200" y="1720800"/>
            <a:ext cx="30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98600" y="2421000"/>
            <a:ext cx="292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8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ت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56360" y="3284640"/>
            <a:ext cx="25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ثال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30040" y="3902040"/>
            <a:ext cx="889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قيست المسافة بين مدينتين على خارطة فكانت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 وكانت المسافة الحقيقية بينهما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 اوجد مقياس رسم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595008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0" y="4930920"/>
            <a:ext cx="9144000" cy="192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3233880"/>
            <a:ext cx="914400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400" y="1546200"/>
            <a:ext cx="9144000" cy="1657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0520"/>
            <a:ext cx="9144000" cy="148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823160" y="4756320"/>
            <a:ext cx="1258920" cy="7920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788000" y="289080"/>
            <a:ext cx="403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مقياس الرسم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468000" y="671400"/>
            <a:ext cx="4608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03280" y="-6984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على الر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476360" y="58896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10280" y="1527120"/>
            <a:ext cx="167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435640" y="2133720"/>
            <a:ext cx="17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ك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236000" y="1844640"/>
            <a:ext cx="86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5292720" y="2224080"/>
            <a:ext cx="1944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497480" y="189396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361440" y="2224080"/>
            <a:ext cx="414036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79640" y="14842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-57240" y="211932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5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2076480" y="1450800"/>
            <a:ext cx="1008000" cy="64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258920" y="141300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76720" y="256536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3417480" y="2109960"/>
            <a:ext cx="863640" cy="79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012000" y="357336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1897200" y="4005360"/>
            <a:ext cx="3528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916360" y="321300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57160" y="3878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mohammad bold art 1"/>
              </a:rPr>
              <a:t>1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453440" y="4765680"/>
            <a:ext cx="1690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مثال</a:t>
            </a: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272880" y="4699080"/>
            <a:ext cx="8208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خارطة هو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: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فإذا كانت المسافة الحقيقية بين موقعين على الخارط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كم فكم تكون المسافة بينهما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0520" y="4365720"/>
            <a:ext cx="9144000" cy="24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6360" y="299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1557360"/>
            <a:ext cx="9144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1400" y="20520"/>
            <a:ext cx="9144000" cy="9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11640" y="743040"/>
            <a:ext cx="1800360" cy="792000"/>
          </a:xfrm>
          <a:prstGeom prst="rect">
            <a:avLst/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42920" y="1270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على الخارطة 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068720" y="73332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932360" y="170028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مقياس الرسم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1042920" y="2141640"/>
            <a:ext cx="4548240" cy="126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9640" y="1413000"/>
            <a:ext cx="45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11280" y="2009880"/>
            <a:ext cx="424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651640" y="3645000"/>
            <a:ext cx="341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8360" y="2852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24440" y="355932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356000" y="3284640"/>
            <a:ext cx="10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0" y="224100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60520" y="3643200"/>
            <a:ext cx="4032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673440"/>
            <a:ext cx="4908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l-KsorZulfiMath"/>
              </a:rPr>
              <a:t>×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726080" y="4756320"/>
            <a:ext cx="45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0" y="5156280"/>
            <a:ext cx="4859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4568760"/>
            <a:ext cx="511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6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 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×</a:t>
            </a:r>
            <a:r>
              <a:rPr b="0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4360" y="513540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3000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924360" y="606420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= 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س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7" dur="2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419040" y="5549760"/>
            <a:ext cx="86425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33440" y="4425840"/>
            <a:ext cx="864216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3960" y="3213000"/>
            <a:ext cx="8642520" cy="1193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620640"/>
            <a:ext cx="8642520" cy="21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851280" y="2811600"/>
            <a:ext cx="1368360" cy="647640"/>
          </a:xfrm>
          <a:prstGeom prst="ellipse">
            <a:avLst/>
          </a:prstGeom>
          <a:solidFill>
            <a:srgbClr val="ff5050"/>
          </a:solidFill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708360" y="41400"/>
            <a:ext cx="4978440" cy="765000"/>
          </a:xfrm>
          <a:prstGeom prst="rect">
            <a:avLst/>
          </a:prstGeom>
          <a:solidFill>
            <a:srgbClr val="00ffcc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843280" y="95400"/>
            <a:ext cx="604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حل تدريب (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) صفحة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  <a:ea typeface="Arabic Transparent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684360" y="466560"/>
            <a:ext cx="8137440" cy="3640680"/>
            <a:chOff x="684360" y="466560"/>
            <a:chExt cx="8137440" cy="3640680"/>
          </a:xfrm>
        </p:grpSpPr>
        <p:sp>
          <p:nvSpPr>
            <p:cNvPr id="689" name=""/>
            <p:cNvSpPr/>
            <p:nvPr/>
          </p:nvSpPr>
          <p:spPr>
            <a:xfrm>
              <a:off x="684360" y="661680"/>
              <a:ext cx="813744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قياس رسم خارطة هو             ما هو بعد موقعين على هذه الخارطة إذا كانت المسافة الحقيقية بينهما هي 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1000</a:t>
              </a:r>
              <a:r>
                <a:rPr b="1" lang="en-US" sz="4400" spc="-1" strike="noStrike">
                  <a:solidFill>
                    <a:srgbClr val="000000"/>
                  </a:solidFill>
                  <a:latin typeface="Bernard MT Condensed"/>
                </a:rPr>
                <a:t> متر ؟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27280" y="1114200"/>
              <a:ext cx="194472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67120" y="46656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 </a:t>
              </a:r>
              <a:r>
                <a:rPr b="1" lang="en-US" sz="4400" spc="-1" strike="noStrike">
                  <a:solidFill>
                    <a:srgbClr val="ff0066"/>
                  </a:solidFill>
                  <a:latin typeface="Bernard MT Condensed"/>
                </a:rPr>
                <a:t>1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89000" y="938160"/>
              <a:ext cx="252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66"/>
                  </a:solidFill>
                  <a:latin typeface="Bernard MT Condensed"/>
                </a:rPr>
                <a:t>50000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851280" y="2708280"/>
            <a:ext cx="136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حل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500720" y="3500280"/>
            <a:ext cx="464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Bernard MT Condensed"/>
              </a:rPr>
              <a:t>مقياس رسم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755280" y="3890880"/>
            <a:ext cx="3745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47680" y="3203640"/>
            <a:ext cx="431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74600" y="379872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الحقيق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5435640" y="5075280"/>
            <a:ext cx="302400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227640" y="4427640"/>
            <a:ext cx="10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796000" y="4951440"/>
            <a:ext cx="227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376880" y="465300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477720" y="5043600"/>
            <a:ext cx="417672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539640" y="4303800"/>
            <a:ext cx="4027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62080" y="4919760"/>
            <a:ext cx="40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464000" y="5713560"/>
            <a:ext cx="46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الطول على الخارطة =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639720" y="6081840"/>
            <a:ext cx="40672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971640" y="603396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500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5425920"/>
            <a:ext cx="447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× 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00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× 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2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4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6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1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6" dur="2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468360" y="620640"/>
            <a:ext cx="8280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692280"/>
            <a:ext cx="19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nard MT Condensed"/>
              </a:rPr>
              <a:t> =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l-KsorZulfiMath"/>
              </a:rPr>
              <a:t>ذ </a:t>
            </a:r>
            <a:r>
              <a:rPr b="1" lang="hi-IN" sz="4000" spc="-1" strike="noStrike">
                <a:solidFill>
                  <a:srgbClr val="000000"/>
                </a:solidFill>
                <a:latin typeface="Bernard MT Condensed"/>
                <a:cs typeface="Arabic Transparent"/>
              </a:rPr>
              <a:t>س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050920" y="2060640"/>
            <a:ext cx="5545440" cy="4797360"/>
          </a:xfrm>
          <a:prstGeom prst="flowChartMultidocument">
            <a:avLst/>
          </a:prstGeom>
          <a:gradFill rotWithShape="0">
            <a:gsLst>
              <a:gs pos="0">
                <a:srgbClr val="99ff33"/>
              </a:gs>
              <a:gs pos="50000">
                <a:srgbClr val="ffffff"/>
              </a:gs>
              <a:gs pos="100000">
                <a:srgbClr val="99ff33"/>
              </a:gs>
            </a:gsLst>
            <a:lin ang="5400000"/>
          </a:gradFill>
          <a:ln w="763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24080" y="350028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Bernard MT Condensed"/>
              </a:rPr>
              <a:t> و إلى اللقاء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380960" y="486900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Bernard MT Condensed"/>
              </a:rPr>
              <a:t>محمد السي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06:37:45Z</dcterms:created>
  <dc:creator>جهاز الطالب</dc:creator>
  <dc:description/>
  <dc:language>en-US</dc:language>
  <cp:lastModifiedBy>Windows XP</cp:lastModifiedBy>
  <dcterms:modified xsi:type="dcterms:W3CDTF">2007-06-16T21:55:26Z</dcterms:modified>
  <cp:revision>7</cp:revision>
  <dc:subject/>
  <dc:title>الشريحة 1</dc:title>
</cp:coreProperties>
</file>